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3D3D-C9B1-497C-826F-4ED96F532A5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E92B-F10F-4A05-9319-F7901C45C48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75CC-6F69-445C-BDAB-2757EA2033D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9A16-3FBB-4D58-9DF3-1C5B70A8DC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FDDF-8168-480B-BD95-80E4B95A865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D7CA-25A1-4991-91A1-AA08379591A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5CA4-C6F2-4343-A316-D6A30C71A4B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250D-B2F8-4CDF-89C5-8448E31B1F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8CCB-8148-430C-A1FA-50F7D9DA58C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1EE3-0BAB-4C0B-A9AC-C21F73C9A44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87DD-FF29-4FB9-B542-01C4A3EB042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B848-B6F0-4546-8A8F-4970C6D9C22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A575-F6D3-43A6-8D08-98F68C49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68F8-161A-4F7F-A885-122D231A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C9C9-8580-4564-8B89-8A8DD558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A981-7F5E-44DD-B697-08F95CC7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3A81-1DDB-4FCC-95D9-69D03162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D589-3028-4DF9-A108-6063B2DE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0CB4-A324-43E0-AF93-2E8144B1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F1EF-DDC5-497E-A5FA-AF1CD2C2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A719-636D-44EA-8F4F-81D9B72E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ACFD-E41F-4FF6-918A-F631811A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FB90-350A-4685-967A-56DF0B1D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083C-7ABF-4388-BFD5-6C9FEA8A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0BCA-8874-44C9-B2EE-3C238A3D8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5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5000760"/>
            <a:ext cx="78580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Guido RAVOET, EBF Secretary Ge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30th EBF Associates’ Me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Baku, Azerbaijan - 28 May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0" y="271476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Financial Modernisation Project in the EBF Associate countries and their alignment with the EU </a:t>
            </a:r>
            <a:r>
              <a:rPr b="1" i="1" lang="en-GB" sz="3600" spc="-1" strike="noStrike">
                <a:solidFill>
                  <a:srgbClr val="1f497d"/>
                </a:solidFill>
                <a:latin typeface="Calibri"/>
              </a:rPr>
              <a:t>Acq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ssociates’ participation requi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16"/>
          <p:cNvSpPr/>
          <p:nvPr/>
        </p:nvSpPr>
        <p:spPr>
          <a:xfrm>
            <a:off x="214200" y="1571760"/>
            <a:ext cx="85726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evelop a national agenda of implementation on the EU financial services </a:t>
            </a:r>
            <a:r>
              <a:rPr b="0" i="1" lang="en-GB" sz="2000" spc="-1" strike="noStrike">
                <a:solidFill>
                  <a:srgbClr val="1f497d"/>
                </a:solidFill>
                <a:latin typeface="Calibri"/>
              </a:rPr>
              <a:t>acquis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, based on cooperation between your NA and respective authori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rrelate your agendas with those of other NBAs of the reg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ssess the extent of your participation in the proj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cquire full backing of your respective Boar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Follow the procedure for the EU Grant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tribute necessary documentation for the specific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required co-fundin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continuous commitment to the project (max duration 24 month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ply with the EU rules applicable to the co-funded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920" y="1428840"/>
            <a:ext cx="8858160" cy="43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ent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Question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xpressions of inter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7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8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2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7"/>
          <p:cNvSpPr/>
          <p:nvPr/>
        </p:nvSpPr>
        <p:spPr>
          <a:xfrm>
            <a:off x="142920" y="1928880"/>
            <a:ext cx="885816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High demand for EU co-fund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ocal points of the EU C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Quality of particip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inimum threshold number of Project Partner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trict co-funding requiremen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EBF commitm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Your inte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EU funds are in high dem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17"/>
          <p:cNvSpPr/>
          <p:nvPr/>
        </p:nvSpPr>
        <p:spPr>
          <a:xfrm>
            <a:off x="142920" y="1932120"/>
            <a:ext cx="8858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pprox. 200 project applicants from all sectors in 2010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ward will be granted to a max of 15 project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round 150 applications would not pass the Concept Note stag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importance of a top quality, easily readable and highly relevant project proposal cannot be unders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Focal points of the EU C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9"/>
          <p:cNvSpPr/>
          <p:nvPr/>
        </p:nvSpPr>
        <p:spPr>
          <a:xfrm>
            <a:off x="142920" y="187020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participation of national banking associations (NBAs) in decision-making, policy implementation and monito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cooperation between NBAs inter se on the one    hand and NBAs and public authorities on the other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understanding among employers and employees of the relevant EU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nd its imp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Quality of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6"/>
          <p:cNvSpPr/>
          <p:nvPr/>
        </p:nvSpPr>
        <p:spPr>
          <a:xfrm>
            <a:off x="142920" y="1857240"/>
            <a:ext cx="88581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Regional cooper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Project Partners’ agendas must be  correlated, geared towards jointly meeting the Project’s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trength of the public dialogu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NBAs must develop their  national agendas for action ahead of the project, to tackle jointly with their respective auth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 </a:t>
            </a:r>
            <a:r>
              <a:rPr b="1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implement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should be at the core of the Project’s work program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umber of Project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16"/>
          <p:cNvSpPr/>
          <p:nvPr/>
        </p:nvSpPr>
        <p:spPr>
          <a:xfrm>
            <a:off x="142920" y="192888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 order to ensure minimum regional co-oper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At least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ree NBAs from the Western Balkans and Turkey must be Project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BAs from neighbouring regions (e.g., Armenia, Azerbaijan, Moldova, Ukraine, etc.) can participate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rict co-fund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1"/>
          <p:cNvSpPr/>
          <p:nvPr/>
        </p:nvSpPr>
        <p:spPr>
          <a:xfrm>
            <a:off x="142920" y="195732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ach of the Project Consortium Partners should be able to ensure the required co-funding, subject to eligibility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Costs of staff assigned to the action may be considered as co-financing in the budget of the action when paid by the Beneficiary or its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he EBF commi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"/>
          <p:cNvSpPr/>
          <p:nvPr/>
        </p:nvSpPr>
        <p:spPr>
          <a:xfrm>
            <a:off x="142920" y="2055960"/>
            <a:ext cx="878688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Given sufficient interest from the Associates, the EBF stands ready to apply for and run the Project, inclu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gage the necessary staff to administer and coordinate the projec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its part of co-fund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the necessary reporting to the European Commiss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Maintain relations with DG Enlarg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BI &amp; BdB maintain their interest supporting thi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5-20T15:43:03Z</dcterms:modified>
  <cp:revision>117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